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949-9E61-4501-B873-30731003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4DC-E096-421F-85A0-FEDB00C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DA2-66CC-4256-BDD0-C6E4CDB3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F8C-C7C1-4FD5-8E9B-EA2D3605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E64-2CE6-4A9E-B76E-C29C804C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DFE-325A-421E-A919-530A56A7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081-8884-4CC5-9052-96ABA4E5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104-C95F-479C-B276-03A21AA8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270-3CA2-4216-A68B-998AAE1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CF8-D0AE-4E42-B3FE-6D1C637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790-8A7D-4A65-AFB9-EA8726A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DB5-2EB5-461C-89B7-EA78324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D46-43C1-418F-8766-08E4670F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haas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eb.mit.edu/invent/iow/haas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1066680"/>
            <a:ext cx="6019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ez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632640" y="5105520"/>
            <a:ext cx="1625400" cy="1191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sidy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02160"/>
            <a:ext cx="4572000" cy="10598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ny Act 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8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26708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Invented by: Eduard Haas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aas"/>
          <p:cNvPicPr/>
          <p:nvPr/>
        </p:nvPicPr>
        <p:blipFill>
          <a:blip r:embed="rId1"/>
          <a:stretch/>
        </p:blipFill>
        <p:spPr>
          <a:xfrm>
            <a:off x="0" y="403200"/>
            <a:ext cx="7315200" cy="3125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505320"/>
            <a:ext cx="4191120" cy="1059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uard Ha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aas"/>
          <p:cNvPicPr/>
          <p:nvPr/>
        </p:nvPicPr>
        <p:blipFill>
          <a:blip r:embed="rId3"/>
          <a:stretch/>
        </p:blipFill>
        <p:spPr>
          <a:xfrm>
            <a:off x="5029200" y="3657600"/>
            <a:ext cx="290988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952880"/>
            <a:ext cx="2286000" cy="133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pen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1/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762120"/>
            <a:ext cx="1752480" cy="2562840"/>
          </a:xfrm>
          <a:prstGeom prst="rect">
            <a:avLst/>
          </a:prstGeom>
          <a:gradFill rotWithShape="0">
            <a:gsLst>
              <a:gs pos="0">
                <a:srgbClr val="f27ad3"/>
              </a:gs>
              <a:gs pos="50000">
                <a:srgbClr val="0066ff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duard Haas III invented the Pez candy and dispenser. He wanted it to appeal to adults, but Pez ended up as a kids can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d515a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v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e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t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o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Cooper Black"/>
              </a:rPr>
              <a:t>e</a:t>
            </a:r>
            <a:r>
              <a:rPr b="0" lang="en-US" sz="4400" spc="-1" strike="noStrike">
                <a:solidFill>
                  <a:srgbClr val="000066"/>
                </a:solidFill>
                <a:latin typeface="Cooper Black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Pez candy and the original Pez dispenser was invented in 19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ez is short for the German word peppermint which is “pfefferminz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s of a few years ago,2  billion Pez candies are consumed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 1955, new flavors were created such as lemon, orange, and strawbe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lso in 1955,the idea was created to put cartoon heads on top of the Pez dispenser to appeal to k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ecause Haas was against smoking, he thought the peppermints would appeal to people who were trying to quit.( So they would have the peppermints to put in their mouth inst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gradFill rotWithShape="0">
            <a:gsLst>
              <a:gs pos="0">
                <a:srgbClr val="f27ad3"/>
              </a:gs>
              <a:gs pos="50000">
                <a:srgbClr val="bbe0e3"/>
              </a:gs>
              <a:gs pos="100000">
                <a:srgbClr val="f27ad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8420"/>
                </a:solidFill>
                <a:latin typeface="Cooper Black"/>
              </a:rPr>
              <a:t>Inventor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: </a:t>
            </a:r>
            <a:r>
              <a:rPr b="0" lang="en-US" sz="4400" spc="-1" strike="noStrike">
                <a:solidFill>
                  <a:srgbClr val="6235d3"/>
                </a:solidFill>
                <a:latin typeface="Cooper Black"/>
              </a:rPr>
              <a:t>Eduard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46adec"/>
                </a:solidFill>
                <a:latin typeface="Cooper Black"/>
              </a:rPr>
              <a:t>Haa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rgbClr val="a1e111"/>
                </a:solidFill>
                <a:latin typeface="Cooper Black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born near Vienna,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born in 1897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duard Haas III was part of an enterprising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is grandfather (Eduard Haas I) was a doctor and created a new type of baking powder that was used to make cakes turn out li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s father briefly attended medical school, but instead of continuing in the medical field, he opened and ran a successful grocery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9Z</dcterms:created>
  <dc:creator>install</dc:creator>
  <dc:description/>
  <dc:language>en-US</dc:language>
  <cp:lastModifiedBy>install</cp:lastModifiedBy>
  <dcterms:modified xsi:type="dcterms:W3CDTF">2011-12-16T16:42:09Z</dcterms:modified>
  <cp:revision>10</cp:revision>
  <dc:subject/>
  <dc:title>Slide 1</dc:title>
</cp:coreProperties>
</file>